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8C20-D5E7-4742-903C-A98D5F2E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6A-811E-47B0-9393-D3C6EFA0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A62-E3E1-43F1-AC6F-B9449ED0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3A4-6F94-40EC-AD7F-18E944B9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6001-4F82-4619-94BD-7DC135F4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8724-63F3-45BE-A92E-5FA4CBE9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8864-FC35-4DFD-9879-DCCC854C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F526-016F-4FBE-8E2F-EC7B8146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EF3F-BC74-4C4E-8A2F-99A30AB0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8EA-F1DF-47A4-B583-FE9EAC2C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8E12-88CB-44B8-998C-1D923124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666-2F89-4DFD-B6FC-193688E5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FDA8-F8E3-469D-A90D-03DA015A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7FA-2256-4C46-96C3-03E3EA19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9F27-04AF-42FE-A439-CE6FC527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9FE9-1108-4713-9BEE-FFCC326F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01BC-66E3-4314-B087-6114035F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486-5046-4C81-9205-3D24FDFC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B06-DC40-4ED3-A6BF-3CEFBB3C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17A-438E-4849-9BB1-A88A0A73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8C7-0BB1-49CD-8F0D-25CFBC8B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0AC6-0892-46EE-93C3-4C68F6C5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713-2E3A-4C7C-8CAA-695E655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7DD-9D59-4A0A-8DD2-D6328801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B2EF-A97C-46B7-91BA-81ACE35660B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8AD5-BB6D-4913-87F5-6A875117DCF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ptember 2003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Dified Documentatio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 pag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ex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TM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ne-click web pag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llustrated tutoria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database need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ation Helper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nbank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SC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wo vers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dfly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FF3 Suppor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Schema Enhanc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do support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st (all?) performance issues resolv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::DB::GFF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lete/update suppor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pdate plugi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Other Notable Happening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B GBrowse” rele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data sourc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AS integratio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n’s GBrowse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RC 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losed loop syste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9-15T15:49:54Z</dcterms:modified>
  <cp:revision>544</cp:revision>
  <dc:subject/>
  <dc:title>Training</dc:title>
</cp:coreProperties>
</file>